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579-EA50-48CA-9127-637EFCE3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4F2-DC50-47FB-BA07-51BACB9A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2229-A531-4713-80C2-94480F5F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232-D392-422E-B065-2C579033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BCB-050D-4826-88B9-107FDA05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3CE2-F0C8-456F-9B22-402FBDB3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0B2-5309-421E-94DD-9AFA4834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DC4C-07C9-4476-9B90-68968E8A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CEA5-64DE-41F5-832E-1CAA52CB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3ED-EC97-4E31-AE9B-460B4213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1E8-B844-475A-A5BC-F2C839FF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813-0962-4F75-B76A-C2F3E0E2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FE58-FAB8-4823-9EEC-D6B8BC0AA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travel.org/en/Image:Transsib-trai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ikitravel.org/en/Image:Vladstation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Trans Siberian Railroa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: Savana Price, Kate Noble Hall, and Anna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E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re taking the Yaroslavl -Vladivostok route which go from Yaroslavl to Vladivostok the train stopped for 20-30 minutes every 3 to 4 hours and we would get off the train and people on platforms would offer drinks and food. This was great because it would crave our hunger while on the trai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Trans-Siberian train at the st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572000"/>
            <a:ext cx="1752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Yaroslav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ong the TSR we first saw the city of Yaroslavl, is one of the oldest cities in Russia. Yaroslavl is wealthy and has a lot of beautiful chur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Trans-Siberian route map showing Trans-Mongolian and Trans-Manchurian routes"/>
          <p:cNvPicPr/>
          <p:nvPr/>
        </p:nvPicPr>
        <p:blipFill>
          <a:blip r:embed="rId1"/>
          <a:stretch/>
        </p:blipFill>
        <p:spPr>
          <a:xfrm>
            <a:off x="2362320" y="3581280"/>
            <a:ext cx="50292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Slee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SR is divided in to different classes First Class is the most comfortable and expensive each cabin has 2 couches that can turn in to beds. Second Class has 4 beds and 1 bathroom that is share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lass little less expensive.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lass is smaller with only a little privacy and small narrow hallway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A 4-berth cabin on the FESCO ferry from Vladivostok to Japan."/>
          <p:cNvPicPr/>
          <p:nvPr/>
        </p:nvPicPr>
        <p:blipFill>
          <a:blip r:embed="rId1"/>
          <a:stretch/>
        </p:blipFill>
        <p:spPr>
          <a:xfrm>
            <a:off x="4876920" y="4724280"/>
            <a:ext cx="236196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Irkut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rkutsk is another wealthy trading city. Irkutsk is a major attraction because of Lake Baikal and that is why it is a trading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mos29.jpg (29529 bytes)"/>
          <p:cNvPicPr/>
          <p:nvPr/>
        </p:nvPicPr>
        <p:blipFill>
          <a:blip r:embed="rId1"/>
          <a:stretch/>
        </p:blipFill>
        <p:spPr>
          <a:xfrm>
            <a:off x="2971800" y="3733920"/>
            <a:ext cx="38862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Vladivos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ladivostok was the last stop on the Trans Siberian Railway. Vladivostok is a major military outpost. We saw the beautiful harbor that brought a lot of trading to Russia. When we arrived in Vladivostok we saw the Vladivostok s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Vladivostok st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4114800"/>
            <a:ext cx="18669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6:47:18Z</dcterms:created>
  <dc:creator>annablock</dc:creator>
  <dc:description/>
  <dc:language>en-US</dc:language>
  <cp:lastModifiedBy>annablock</cp:lastModifiedBy>
  <dcterms:modified xsi:type="dcterms:W3CDTF">2008-11-25T17:07:02Z</dcterms:modified>
  <cp:revision>3</cp:revision>
  <dc:subject/>
  <dc:title>Slide 1</dc:title>
</cp:coreProperties>
</file>